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1085-8D1A-43F5-AC34-EA2264846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8764-3536-487A-8396-E510D81B1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F638-1373-4D7F-8C52-7594DB1F9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377F-B0A5-45CB-953E-0A710E44B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F229-FBB9-43AF-AE67-FF14671EF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CD3D-7FB3-4F67-81A9-5578AFC48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FBEB-7A70-4698-9B56-D74929F02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145C-4E24-4303-A5E9-C23E753C1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3192-509F-4B45-B29E-F62529706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E63A-ED01-45AD-9621-B5E2CFC4A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A0F8-F796-42FB-89A1-244A938F5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4805-4222-45AF-8CBB-F02DDAACE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F2921-AF8E-4728-B83D-A3225A20E8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2000160" y="1490760"/>
            <a:ext cx="5143680" cy="3876480"/>
          </a:xfrm>
          <a:prstGeom prst="rect">
            <a:avLst/>
          </a:prstGeom>
          <a:ln w="0">
            <a:noFill/>
          </a:ln>
        </p:spPr>
      </p:pic>
      <p:sp>
        <p:nvSpPr>
          <p:cNvPr id="42" name="TextBox 3"/>
          <p:cNvSpPr/>
          <p:nvPr/>
        </p:nvSpPr>
        <p:spPr>
          <a:xfrm>
            <a:off x="7143840" y="914400"/>
            <a:ext cx="139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ose the ap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3" name="Straight Arrow Connector 5"/>
          <p:cNvCxnSpPr/>
          <p:nvPr/>
        </p:nvCxnSpPr>
        <p:spPr>
          <a:xfrm flipH="1">
            <a:off x="7085880" y="1221840"/>
            <a:ext cx="153000" cy="2264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4" name="TextBox 8"/>
          <p:cNvSpPr/>
          <p:nvPr/>
        </p:nvSpPr>
        <p:spPr>
          <a:xfrm>
            <a:off x="7311960" y="1981080"/>
            <a:ext cx="106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isclaim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5" name="Straight Arrow Connector 9"/>
          <p:cNvCxnSpPr>
            <a:stCxn id="44" idx="1"/>
          </p:cNvCxnSpPr>
          <p:nvPr/>
        </p:nvCxnSpPr>
        <p:spPr>
          <a:xfrm flipH="1">
            <a:off x="6971760" y="2134440"/>
            <a:ext cx="340560" cy="266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6" name="TextBox 16"/>
          <p:cNvSpPr/>
          <p:nvPr/>
        </p:nvSpPr>
        <p:spPr>
          <a:xfrm>
            <a:off x="7304040" y="3048120"/>
            <a:ext cx="138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how/Hide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7" name="Straight Arrow Connector 17"/>
          <p:cNvCxnSpPr>
            <a:stCxn id="46" idx="1"/>
          </p:cNvCxnSpPr>
          <p:nvPr/>
        </p:nvCxnSpPr>
        <p:spPr>
          <a:xfrm flipH="1" flipV="1">
            <a:off x="6323760" y="3201120"/>
            <a:ext cx="980640" cy="72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8" name="TextBox 20"/>
          <p:cNvSpPr/>
          <p:nvPr/>
        </p:nvSpPr>
        <p:spPr>
          <a:xfrm>
            <a:off x="7456320" y="4038480"/>
            <a:ext cx="138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ata/Edit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9" name="Straight Arrow Connector 21"/>
          <p:cNvCxnSpPr/>
          <p:nvPr/>
        </p:nvCxnSpPr>
        <p:spPr>
          <a:xfrm flipH="1" flipV="1">
            <a:off x="6408360" y="3961800"/>
            <a:ext cx="1033920" cy="23076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0" name="Right Bracket 19"/>
          <p:cNvSpPr/>
          <p:nvPr/>
        </p:nvSpPr>
        <p:spPr>
          <a:xfrm>
            <a:off x="6172200" y="3276720"/>
            <a:ext cx="225360" cy="1447560"/>
          </a:xfrm>
          <a:custGeom>
            <a:avLst/>
            <a:gdLst>
              <a:gd name="textAreaLeft" fmla="*/ 0 w 225360"/>
              <a:gd name="textAreaRight" fmla="*/ 158040 w 225360"/>
              <a:gd name="textAreaTop" fmla="*/ 9360 h 1447560"/>
              <a:gd name="textAreaBottom" fmla="*/ 143820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40"/>
                  <a:pt x="21600" y="280"/>
                </a:cubicBezTo>
                <a:lnTo>
                  <a:pt x="21600" y="21320"/>
                </a:lnTo>
                <a:cubicBezTo>
                  <a:pt x="21600" y="21460"/>
                  <a:pt x="10800" y="21600"/>
                  <a:pt x="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25"/>
          <p:cNvSpPr/>
          <p:nvPr/>
        </p:nvSpPr>
        <p:spPr>
          <a:xfrm>
            <a:off x="1058760" y="56466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ose app w/o savin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26"/>
          <p:cNvSpPr/>
          <p:nvPr/>
        </p:nvSpPr>
        <p:spPr>
          <a:xfrm>
            <a:off x="2913120" y="565956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ear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27"/>
          <p:cNvSpPr/>
          <p:nvPr/>
        </p:nvSpPr>
        <p:spPr>
          <a:xfrm>
            <a:off x="4572000" y="56674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fresh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28"/>
          <p:cNvSpPr/>
          <p:nvPr/>
        </p:nvSpPr>
        <p:spPr>
          <a:xfrm>
            <a:off x="5867280" y="5667480"/>
            <a:ext cx="1105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ave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5" name="Straight Arrow Connector 29"/>
          <p:cNvCxnSpPr/>
          <p:nvPr/>
        </p:nvCxnSpPr>
        <p:spPr>
          <a:xfrm flipV="1">
            <a:off x="2286000" y="5104800"/>
            <a:ext cx="991440" cy="56268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6" name="Straight Arrow Connector 32"/>
          <p:cNvCxnSpPr>
            <a:stCxn id="52" idx="0"/>
          </p:cNvCxnSpPr>
          <p:nvPr/>
        </p:nvCxnSpPr>
        <p:spPr>
          <a:xfrm flipV="1">
            <a:off x="3446280" y="5104800"/>
            <a:ext cx="592920" cy="55512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7" name="Straight Arrow Connector 35"/>
          <p:cNvCxnSpPr>
            <a:stCxn id="53" idx="0"/>
          </p:cNvCxnSpPr>
          <p:nvPr/>
        </p:nvCxnSpPr>
        <p:spPr>
          <a:xfrm flipH="1" flipV="1">
            <a:off x="5011200" y="5133600"/>
            <a:ext cx="170640" cy="5342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8" name="Straight Arrow Connector 37"/>
          <p:cNvCxnSpPr/>
          <p:nvPr/>
        </p:nvCxnSpPr>
        <p:spPr>
          <a:xfrm flipH="1" flipV="1">
            <a:off x="5781240" y="5176440"/>
            <a:ext cx="504000" cy="5342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3T17:19:30Z</dcterms:created>
  <dc:creator>Jimmo</dc:creator>
  <dc:description/>
  <dc:language>en-US</dc:language>
  <cp:lastModifiedBy>Jimmo</cp:lastModifiedBy>
  <dcterms:modified xsi:type="dcterms:W3CDTF">2015-03-03T17:38:21Z</dcterms:modified>
  <cp:revision>5</cp:revision>
  <dc:subject/>
  <dc:title>PowerPoint Presentation</dc:title>
</cp:coreProperties>
</file>