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62D6-5831-4D8A-8933-E004E11AC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6490-3363-4483-87A9-0F6567080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61EC-605C-48AD-836A-C49970029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A656-BF02-4C0B-A095-DCD6BDB0B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91CD-582A-492F-BDB3-1251C947A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33E0-250C-4B29-8EF9-815893545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E183-4D8B-4BF2-939E-22C04A0DE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6F43-1A4D-4911-8777-52A7F789E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14B7-AD63-42B0-900E-596EC946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93E2-9820-4E3B-95D1-78C31FEF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2F95-03A0-4049-99DD-8338C6E3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7A29-9A1B-40BB-8257-9284F019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A0252-A23D-49BF-AC71-22E53FABAD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000160" y="1490760"/>
            <a:ext cx="5143680" cy="387648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7143840" y="91440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the ap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Arrow Connector 5"/>
          <p:cNvCxnSpPr/>
          <p:nvPr/>
        </p:nvCxnSpPr>
        <p:spPr>
          <a:xfrm flipH="1">
            <a:off x="7085880" y="1221840"/>
            <a:ext cx="153000" cy="2264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4" name="TextBox 8"/>
          <p:cNvSpPr/>
          <p:nvPr/>
        </p:nvSpPr>
        <p:spPr>
          <a:xfrm>
            <a:off x="7311960" y="1981080"/>
            <a:ext cx="106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Straight Arrow Connector 9"/>
          <p:cNvCxnSpPr>
            <a:stCxn id="44" idx="1"/>
          </p:cNvCxnSpPr>
          <p:nvPr/>
        </p:nvCxnSpPr>
        <p:spPr>
          <a:xfrm flipH="1">
            <a:off x="6971760" y="2134440"/>
            <a:ext cx="340560" cy="266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6" name="TextBox 16"/>
          <p:cNvSpPr/>
          <p:nvPr/>
        </p:nvSpPr>
        <p:spPr>
          <a:xfrm>
            <a:off x="7304040" y="30481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how/Hide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Straight Arrow Connector 17"/>
          <p:cNvCxnSpPr>
            <a:stCxn id="46" idx="1"/>
          </p:cNvCxnSpPr>
          <p:nvPr/>
        </p:nvCxnSpPr>
        <p:spPr>
          <a:xfrm flipH="1" flipV="1">
            <a:off x="6323760" y="3201120"/>
            <a:ext cx="980640" cy="7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8" name="TextBox 20"/>
          <p:cNvSpPr/>
          <p:nvPr/>
        </p:nvSpPr>
        <p:spPr>
          <a:xfrm>
            <a:off x="7456320" y="403848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/Edit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Straight Arrow Connector 21"/>
          <p:cNvCxnSpPr/>
          <p:nvPr/>
        </p:nvCxnSpPr>
        <p:spPr>
          <a:xfrm flipH="1" flipV="1">
            <a:off x="6408360" y="3961800"/>
            <a:ext cx="1033920" cy="23076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0" name="Right Bracket 19"/>
          <p:cNvSpPr/>
          <p:nvPr/>
        </p:nvSpPr>
        <p:spPr>
          <a:xfrm>
            <a:off x="6172200" y="3276720"/>
            <a:ext cx="225360" cy="1447560"/>
          </a:xfrm>
          <a:custGeom>
            <a:avLst/>
            <a:gdLst>
              <a:gd name="textAreaLeft" fmla="*/ 0 w 225360"/>
              <a:gd name="textAreaRight" fmla="*/ 158040 w 225360"/>
              <a:gd name="textAreaTop" fmla="*/ 9360 h 1447560"/>
              <a:gd name="textAreaBottom" fmla="*/ 14382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40"/>
                  <a:pt x="21600" y="280"/>
                </a:cubicBezTo>
                <a:lnTo>
                  <a:pt x="21600" y="21320"/>
                </a:lnTo>
                <a:cubicBezTo>
                  <a:pt x="21600" y="21460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5"/>
          <p:cNvSpPr/>
          <p:nvPr/>
        </p:nvSpPr>
        <p:spPr>
          <a:xfrm>
            <a:off x="1058760" y="56466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app w/o sav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6"/>
          <p:cNvSpPr/>
          <p:nvPr/>
        </p:nvSpPr>
        <p:spPr>
          <a:xfrm>
            <a:off x="2913120" y="565956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ear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7"/>
          <p:cNvSpPr/>
          <p:nvPr/>
        </p:nvSpPr>
        <p:spPr>
          <a:xfrm>
            <a:off x="4572000" y="56674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fresh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8"/>
          <p:cNvSpPr/>
          <p:nvPr/>
        </p:nvSpPr>
        <p:spPr>
          <a:xfrm>
            <a:off x="5867280" y="5667480"/>
            <a:ext cx="110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ave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29"/>
          <p:cNvCxnSpPr/>
          <p:nvPr/>
        </p:nvCxnSpPr>
        <p:spPr>
          <a:xfrm flipV="1">
            <a:off x="2286000" y="5104800"/>
            <a:ext cx="991440" cy="56268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6" name="Straight Arrow Connector 32"/>
          <p:cNvCxnSpPr>
            <a:stCxn id="52" idx="0"/>
          </p:cNvCxnSpPr>
          <p:nvPr/>
        </p:nvCxnSpPr>
        <p:spPr>
          <a:xfrm flipV="1">
            <a:off x="3446280" y="5104800"/>
            <a:ext cx="592920" cy="5551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" name="Straight Arrow Connector 35"/>
          <p:cNvCxnSpPr>
            <a:stCxn id="53" idx="0"/>
          </p:cNvCxnSpPr>
          <p:nvPr/>
        </p:nvCxnSpPr>
        <p:spPr>
          <a:xfrm flipH="1" flipV="1">
            <a:off x="5011200" y="5133600"/>
            <a:ext cx="17064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8" name="Straight Arrow Connector 37"/>
          <p:cNvCxnSpPr/>
          <p:nvPr/>
        </p:nvCxnSpPr>
        <p:spPr>
          <a:xfrm flipH="1" flipV="1">
            <a:off x="5781240" y="5176440"/>
            <a:ext cx="50400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7:19:30Z</dcterms:created>
  <dc:creator>Jimmo</dc:creator>
  <dc:description/>
  <dc:language>en-US</dc:language>
  <cp:lastModifiedBy>Jimmo</cp:lastModifiedBy>
  <dcterms:modified xsi:type="dcterms:W3CDTF">2015-03-03T17:38:21Z</dcterms:modified>
  <cp:revision>5</cp:revision>
  <dc:subject/>
  <dc:title>PowerPoint Presentation</dc:title>
</cp:coreProperties>
</file>