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3F8F-E237-4F02-8A49-0E37B9B7D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7515-C90A-4242-AC4B-FD99797C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C46F-0186-4002-BD1C-8578A2022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588C-6455-4733-B6A2-13FAA5DF2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21B2-7155-4F74-B143-793DDCF0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6E59-1AEE-44BE-80B8-864E5EDD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FEBD-468B-45C6-B811-F1A081168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B841-2CDF-4F4E-87EF-6CB2567A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9A09-2AE0-45B8-BCF3-CEB5BCE0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7E53-79D0-4C55-94C0-43621C9C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B1DA-E44A-42AC-9CB2-3AA9F5D9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FCC2-F0B2-4EF8-8E91-B6A861F4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5FB0-10AF-4866-BC49-8228B68D54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9"/>
          <p:cNvCxnSpPr>
            <a:stCxn id="44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TextBox 16"/>
          <p:cNvSpPr/>
          <p:nvPr/>
        </p:nvSpPr>
        <p:spPr>
          <a:xfrm>
            <a:off x="7304040" y="30481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ow/Hid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7"/>
          <p:cNvCxnSpPr>
            <a:stCxn id="46" idx="1"/>
          </p:cNvCxnSpPr>
          <p:nvPr/>
        </p:nvCxnSpPr>
        <p:spPr>
          <a:xfrm flipH="1" flipV="1">
            <a:off x="6323760" y="3201120"/>
            <a:ext cx="980640" cy="7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572000" y="5667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2"/>
          <p:cNvCxnSpPr>
            <a:stCxn id="52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35"/>
          <p:cNvCxnSpPr>
            <a:stCxn id="53" idx="0"/>
          </p:cNvCxnSpPr>
          <p:nvPr/>
        </p:nvCxnSpPr>
        <p:spPr>
          <a:xfrm flipH="1" flipV="1">
            <a:off x="50112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3-03T17:38:21Z</dcterms:modified>
  <cp:revision>5</cp:revision>
  <dc:subject/>
  <dc:title>PowerPoint Presentation</dc:title>
</cp:coreProperties>
</file>