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5E81-3C1D-4CF7-A262-FAF9BAB71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7E26-E91B-4DE9-9203-A6FA1CF68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CADE-BA49-45DF-BB73-B2EAD7F58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AEC5-7757-4A5D-932F-3F8C2C63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40A0-2A33-4014-912B-44148FF09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AB27-E31A-431C-A779-A766134A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87FE-47A9-4E6E-9936-3C360490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719-DE05-47D2-B2A0-1F46461C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CD00-C314-4C6D-A0B7-76F4248CA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2701-0540-4C58-A845-1AD02CB9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AED5-C967-4886-A6C9-E4B543EC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9FF7-6A1C-4E0E-BD6B-313DE2E9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E773-5714-4585-B942-F25BFD7AA6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2000160" y="1490760"/>
            <a:ext cx="5143680" cy="387648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4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9"/>
          <p:cNvCxnSpPr>
            <a:stCxn id="44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6" name="TextBox 16"/>
          <p:cNvSpPr/>
          <p:nvPr/>
        </p:nvSpPr>
        <p:spPr>
          <a:xfrm>
            <a:off x="7304040" y="304812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how/Hide Tex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Straight Arrow Connector 17"/>
          <p:cNvCxnSpPr>
            <a:stCxn id="46" idx="1"/>
          </p:cNvCxnSpPr>
          <p:nvPr/>
        </p:nvCxnSpPr>
        <p:spPr>
          <a:xfrm flipH="1" flipV="1">
            <a:off x="6323760" y="3201120"/>
            <a:ext cx="980640" cy="7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8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9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7"/>
          <p:cNvSpPr/>
          <p:nvPr/>
        </p:nvSpPr>
        <p:spPr>
          <a:xfrm>
            <a:off x="4572000" y="566748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5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2"/>
          <p:cNvCxnSpPr>
            <a:stCxn id="52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7" name="Straight Arrow Connector 35"/>
          <p:cNvCxnSpPr>
            <a:stCxn id="53" idx="0"/>
          </p:cNvCxnSpPr>
          <p:nvPr/>
        </p:nvCxnSpPr>
        <p:spPr>
          <a:xfrm flipH="1" flipV="1">
            <a:off x="50112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8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3-03T17:38:21Z</dcterms:modified>
  <cp:revision>5</cp:revision>
  <dc:subject/>
  <dc:title>PowerPoint Presentation</dc:title>
</cp:coreProperties>
</file>