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B984-1FE4-42AC-BAA3-AC02B738F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E293-645F-4109-8320-B97AEF892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6BD2-FEC5-4CFE-9107-83FEAECEA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5A9E-0EEB-4E50-B16A-27A9C0D1E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A4ED-D39A-4FE4-A6C8-64FD2CE45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E136-ADDD-4835-BA65-3D3773B03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D53C-4F46-488D-A977-464277957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E1C7-DEA0-4CB7-A70E-BEF530DDA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CAF4-F35C-4FB6-915C-7C011E420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C5DE-7435-4F8F-ABE0-18D4BBD28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28BD-8152-43B7-A427-535868DAF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2A99-EE8E-404A-A231-3E3D7EED9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8ACF8-E05E-4430-852E-D661D385A7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1295280" y="838080"/>
            <a:ext cx="6126120" cy="1143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5"/>
          <p:cNvSpPr/>
          <p:nvPr/>
        </p:nvSpPr>
        <p:spPr>
          <a:xfrm>
            <a:off x="1125360" y="1998720"/>
            <a:ext cx="3124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From the main form, </a:t>
            </a: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Template Utility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 will open another form of actions that a manager or user can take on templates. Users can edit their own but managers can edit all that they are authorized for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3" name="Straight Arrow Connector 8"/>
          <p:cNvCxnSpPr>
            <a:stCxn id="42" idx="0"/>
          </p:cNvCxnSpPr>
          <p:nvPr/>
        </p:nvCxnSpPr>
        <p:spPr>
          <a:xfrm flipV="1">
            <a:off x="2687400" y="1409400"/>
            <a:ext cx="1051560" cy="589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4" name="TextBox 10"/>
          <p:cNvSpPr/>
          <p:nvPr/>
        </p:nvSpPr>
        <p:spPr>
          <a:xfrm>
            <a:off x="4302000" y="1998720"/>
            <a:ext cx="3124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This option will simply refresh the Forms menu by getting a current copy of the template list from the server. Takes about a split-second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" name="Straight Arrow Connector 11"/>
          <p:cNvCxnSpPr>
            <a:stCxn id="44" idx="0"/>
          </p:cNvCxnSpPr>
          <p:nvPr/>
        </p:nvCxnSpPr>
        <p:spPr>
          <a:xfrm flipH="1" flipV="1">
            <a:off x="4804920" y="1599480"/>
            <a:ext cx="1059480" cy="399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46" name="Picture 17" descr=""/>
          <p:cNvPicPr/>
          <p:nvPr/>
        </p:nvPicPr>
        <p:blipFill>
          <a:blip r:embed="rId2"/>
          <a:stretch/>
        </p:blipFill>
        <p:spPr>
          <a:xfrm>
            <a:off x="996840" y="3220920"/>
            <a:ext cx="6972480" cy="1104840"/>
          </a:xfrm>
          <a:prstGeom prst="rect">
            <a:avLst/>
          </a:prstGeom>
          <a:ln w="0">
            <a:noFill/>
          </a:ln>
        </p:spPr>
      </p:pic>
      <p:grpSp>
        <p:nvGrpSpPr>
          <p:cNvPr id="47" name="Down Arrow 26"/>
          <p:cNvGrpSpPr/>
          <p:nvPr/>
        </p:nvGrpSpPr>
        <p:grpSpPr>
          <a:xfrm>
            <a:off x="2840040" y="2554200"/>
            <a:ext cx="353880" cy="725400"/>
            <a:chOff x="2840040" y="2554200"/>
            <a:chExt cx="353880" cy="725400"/>
          </a:xfrm>
        </p:grpSpPr>
        <p:pic>
          <p:nvPicPr>
            <p:cNvPr id="48" name="Down Arrow 26" descr=""/>
            <p:cNvPicPr/>
            <p:nvPr/>
          </p:nvPicPr>
          <p:blipFill>
            <a:blip r:embed="rId3"/>
            <a:stretch/>
          </p:blipFill>
          <p:spPr>
            <a:xfrm>
              <a:off x="2840040" y="2554200"/>
              <a:ext cx="35388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955960" y="2584440"/>
              <a:ext cx="120600" cy="55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0" name="Picture 27" descr=""/>
          <p:cNvPicPr/>
          <p:nvPr/>
        </p:nvPicPr>
        <p:blipFill>
          <a:blip r:embed="rId4"/>
          <a:stretch/>
        </p:blipFill>
        <p:spPr>
          <a:xfrm>
            <a:off x="328680" y="3505320"/>
            <a:ext cx="1933560" cy="733320"/>
          </a:xfrm>
          <a:prstGeom prst="rect">
            <a:avLst/>
          </a:prstGeom>
          <a:ln w="0">
            <a:noFill/>
          </a:ln>
        </p:spPr>
      </p:pic>
      <p:sp>
        <p:nvSpPr>
          <p:cNvPr id="51" name="TextBox 31"/>
          <p:cNvSpPr/>
          <p:nvPr/>
        </p:nvSpPr>
        <p:spPr>
          <a:xfrm>
            <a:off x="84240" y="4419720"/>
            <a:ext cx="24224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Ad Hoc Finished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When the Ad Hoc field option used (in Template Management-&gt;Ad Hoc), this option will file the data for those fields. Ad Hoc fields are not saved or stored in a Fileman input template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Save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Saves any other function on the form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Exit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Exits the for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3"/>
          <p:cNvSpPr/>
          <p:nvPr/>
        </p:nvSpPr>
        <p:spPr>
          <a:xfrm>
            <a:off x="5546880" y="4435560"/>
            <a:ext cx="2422440" cy="21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Clear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Clears any components on the main for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Sort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When the field listing is displayed, one can re-sort the listing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Template Management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Ad Hoc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Individually selected fields for patient data Enter/Editing. Fields are not saved in any template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Create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Create a new template with this feature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Delete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One can delete a template from the current listing. Note that the template in the Fileman file (.402) is NOT deleted. If that is desired the manager, TAC,  or IT department should be notified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Edit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For editing a template (adding or deleting fields)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5" descr=""/>
          <p:cNvPicPr/>
          <p:nvPr/>
        </p:nvPicPr>
        <p:blipFill>
          <a:blip r:embed="rId5"/>
          <a:stretch/>
        </p:blipFill>
        <p:spPr>
          <a:xfrm>
            <a:off x="2451240" y="4313160"/>
            <a:ext cx="1504800" cy="676440"/>
          </a:xfrm>
          <a:prstGeom prst="rect">
            <a:avLst/>
          </a:prstGeom>
          <a:ln w="0">
            <a:noFill/>
          </a:ln>
        </p:spPr>
      </p:pic>
      <p:cxnSp>
        <p:nvCxnSpPr>
          <p:cNvPr id="54" name="Straight Arrow Connector 36"/>
          <p:cNvCxnSpPr/>
          <p:nvPr/>
        </p:nvCxnSpPr>
        <p:spPr>
          <a:xfrm>
            <a:off x="2910960" y="3504960"/>
            <a:ext cx="1080" cy="794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5" name="Picture 39" descr=""/>
          <p:cNvPicPr/>
          <p:nvPr/>
        </p:nvPicPr>
        <p:blipFill>
          <a:blip r:embed="rId6"/>
          <a:stretch/>
        </p:blipFill>
        <p:spPr>
          <a:xfrm>
            <a:off x="3287880" y="3551400"/>
            <a:ext cx="1180800" cy="687240"/>
          </a:xfrm>
          <a:prstGeom prst="rect">
            <a:avLst/>
          </a:prstGeom>
          <a:ln w="0">
            <a:noFill/>
          </a:ln>
        </p:spPr>
      </p:pic>
      <p:cxnSp>
        <p:nvCxnSpPr>
          <p:cNvPr id="56" name="Straight Arrow Connector 40"/>
          <p:cNvCxnSpPr/>
          <p:nvPr/>
        </p:nvCxnSpPr>
        <p:spPr>
          <a:xfrm flipH="1" flipV="1">
            <a:off x="4357440" y="4238280"/>
            <a:ext cx="1281600" cy="81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1905120" y="392040"/>
            <a:ext cx="1676160" cy="2259000"/>
          </a:xfrm>
          <a:prstGeom prst="rect">
            <a:avLst/>
          </a:prstGeom>
          <a:ln w="0">
            <a:noFill/>
          </a:ln>
        </p:spPr>
      </p:pic>
      <p:sp>
        <p:nvSpPr>
          <p:cNvPr id="58" name="TextBox 4"/>
          <p:cNvSpPr/>
          <p:nvPr/>
        </p:nvSpPr>
        <p:spPr>
          <a:xfrm>
            <a:off x="3200400" y="982800"/>
            <a:ext cx="32767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Red Arrow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Moves listings in the Source list area to the Target listing area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Green Up Arrow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Moves a line in the Target listing up one slot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Green Down Arrow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Moves a line in the Target listing down one slot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Person tossing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Deletes a highlighted line from the Target Listin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16T17:15:48Z</dcterms:created>
  <dc:creator>Jimmo</dc:creator>
  <dc:description/>
  <dc:language>en-US</dc:language>
  <cp:lastModifiedBy>Jimmo</cp:lastModifiedBy>
  <dcterms:modified xsi:type="dcterms:W3CDTF">2016-11-16T19:53:21Z</dcterms:modified>
  <cp:revision>13</cp:revision>
  <dc:subject/>
  <dc:title>PowerPoint Presentation</dc:title>
</cp:coreProperties>
</file>