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42EE-5DEE-4D16-A75F-1010EA44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4717-1DE2-4ED0-88C2-A76370F6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E576-67A6-44D3-A6DB-BC85D507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9AD5-5750-47E8-86ED-1E0A57DB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2BC9-27A9-4A89-984F-BD718BA6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16A1-2D3C-4716-A718-DEFE117E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BEEC-8061-4396-936B-AB04F0B2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95B3-6120-4FE4-AD2E-38E9CF50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EBC0-2554-4283-BF45-97DC6E28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76EE-6B4E-4232-B073-514D2E08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1086-20C7-4BB5-9E2C-332CA391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108-50C1-4AC5-94B1-4F5248DD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AE55-68A8-4EF8-A6EF-F9908C57B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12612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25360" y="199872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From the main form,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Utility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 will open another form of actions that a manager or user can take on templates. Users can edit their own but managers can edit all that they are authorized f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8"/>
          <p:cNvCxnSpPr>
            <a:stCxn id="42" idx="0"/>
          </p:cNvCxnSpPr>
          <p:nvPr/>
        </p:nvCxnSpPr>
        <p:spPr>
          <a:xfrm flipV="1">
            <a:off x="2687400" y="1409400"/>
            <a:ext cx="10515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10"/>
          <p:cNvSpPr/>
          <p:nvPr/>
        </p:nvSpPr>
        <p:spPr>
          <a:xfrm>
            <a:off x="4302000" y="19987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his option will simply refresh the Forms menu by getting a current copy of the template list from the server. Takes about a split-secon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11"/>
          <p:cNvCxnSpPr>
            <a:stCxn id="44" idx="0"/>
          </p:cNvCxnSpPr>
          <p:nvPr/>
        </p:nvCxnSpPr>
        <p:spPr>
          <a:xfrm flipH="1" flipV="1">
            <a:off x="4804920" y="1599480"/>
            <a:ext cx="10594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996840" y="3220920"/>
            <a:ext cx="6972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7" name="Down Arrow 26"/>
          <p:cNvGrpSpPr/>
          <p:nvPr/>
        </p:nvGrpSpPr>
        <p:grpSpPr>
          <a:xfrm>
            <a:off x="2840040" y="2554200"/>
            <a:ext cx="353880" cy="725400"/>
            <a:chOff x="2840040" y="2554200"/>
            <a:chExt cx="353880" cy="725400"/>
          </a:xfrm>
        </p:grpSpPr>
        <p:pic>
          <p:nvPicPr>
            <p:cNvPr id="48" name="Down Arrow 26" descr=""/>
            <p:cNvPicPr/>
            <p:nvPr/>
          </p:nvPicPr>
          <p:blipFill>
            <a:blip r:embed="rId3"/>
            <a:stretch/>
          </p:blipFill>
          <p:spPr>
            <a:xfrm>
              <a:off x="2840040" y="2554200"/>
              <a:ext cx="353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55960" y="2584440"/>
              <a:ext cx="1206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27" descr=""/>
          <p:cNvPicPr/>
          <p:nvPr/>
        </p:nvPicPr>
        <p:blipFill>
          <a:blip r:embed="rId4"/>
          <a:stretch/>
        </p:blipFill>
        <p:spPr>
          <a:xfrm>
            <a:off x="328680" y="350532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1"/>
          <p:cNvSpPr/>
          <p:nvPr/>
        </p:nvSpPr>
        <p:spPr>
          <a:xfrm>
            <a:off x="84240" y="4419720"/>
            <a:ext cx="24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 Finished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Ad Hoc field option used (in Template Management-&gt;Ad Hoc), this option will file the data for those fields. Ad Hoc fields are not saved or stored in a Fileman input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av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Saves any other function on the fo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x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Exits the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5546880" y="4435560"/>
            <a:ext cx="2422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lear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lears any components on the main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or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field listing is displayed, one can re-sort the lis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Managemen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Individually selected fields for patient data Enter/Editing. Fields are not saved in any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rea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reate a new template with this featur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Dele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One can delete a template from the current listing. Note that the template in the Fileman file (.402) is NOT deleted. If that is desired the manager, TAC,  or IT department should be notifi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d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For editing a template (adding or deleting field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5"/>
          <a:stretch/>
        </p:blipFill>
        <p:spPr>
          <a:xfrm>
            <a:off x="2451240" y="4313160"/>
            <a:ext cx="1504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36"/>
          <p:cNvCxnSpPr/>
          <p:nvPr/>
        </p:nvCxnSpPr>
        <p:spPr>
          <a:xfrm>
            <a:off x="2910960" y="3504960"/>
            <a:ext cx="108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Picture 39" descr=""/>
          <p:cNvPicPr/>
          <p:nvPr/>
        </p:nvPicPr>
        <p:blipFill>
          <a:blip r:embed="rId6"/>
          <a:stretch/>
        </p:blipFill>
        <p:spPr>
          <a:xfrm>
            <a:off x="3287880" y="3551400"/>
            <a:ext cx="1180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0"/>
          <p:cNvCxnSpPr/>
          <p:nvPr/>
        </p:nvCxnSpPr>
        <p:spPr>
          <a:xfrm flipH="1" flipV="1">
            <a:off x="4357440" y="4238280"/>
            <a:ext cx="128160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05120" y="392040"/>
            <a:ext cx="1676160" cy="22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0400" y="982800"/>
            <a:ext cx="327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Red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listings in the Source list area to the Target listing are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Up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up one slo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Down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down one sl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Person tossing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Deletes a highlighted line from the Target Lis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15:48Z</dcterms:created>
  <dc:creator>Jimmo</dc:creator>
  <dc:description/>
  <dc:language>en-US</dc:language>
  <cp:lastModifiedBy>Jimmo</cp:lastModifiedBy>
  <dcterms:modified xsi:type="dcterms:W3CDTF">2016-11-16T19:53:21Z</dcterms:modified>
  <cp:revision>13</cp:revision>
  <dc:subject/>
  <dc:title>PowerPoint Presentation</dc:title>
</cp:coreProperties>
</file>