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6783-BBFF-473E-90C2-01AD5F06E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554B-DAE2-4015-9746-9D151124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3EAE-5EFA-491E-AA30-BCC4EFD6F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8EE4-7FCD-4DFB-8E1D-0E4A19D04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337B-4609-43FF-A706-4C8D7CD6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0B3B-2457-4A73-9E8A-E7B5FCCE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D042-A62C-468F-A18A-8D17AF35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662B-31DA-469A-B34D-53A106DC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80E5-C149-404B-96DF-ED7F60A9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6DF3-27C0-410C-AC12-9B2641B8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6180-DFD9-4DA3-A269-B836BE31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AD30-B723-4086-87EF-9AD6D27A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CA25-B7CA-4AED-B98A-E5388AC182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126120" cy="1143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1125360" y="1998720"/>
            <a:ext cx="31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From the main form, </a:t>
            </a: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emplate Utility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 will open another form of actions that a manager or user can take on templates. Users can edit their own but managers can edit all that they are authorized for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8"/>
          <p:cNvCxnSpPr>
            <a:stCxn id="42" idx="0"/>
          </p:cNvCxnSpPr>
          <p:nvPr/>
        </p:nvCxnSpPr>
        <p:spPr>
          <a:xfrm flipV="1">
            <a:off x="2687400" y="1409400"/>
            <a:ext cx="1051560" cy="58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" name="TextBox 10"/>
          <p:cNvSpPr/>
          <p:nvPr/>
        </p:nvSpPr>
        <p:spPr>
          <a:xfrm>
            <a:off x="4302000" y="1998720"/>
            <a:ext cx="312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his option will simply refresh the Forms menu by getting a current copy of the template list from the server. Takes about a split-second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11"/>
          <p:cNvCxnSpPr>
            <a:stCxn id="44" idx="0"/>
          </p:cNvCxnSpPr>
          <p:nvPr/>
        </p:nvCxnSpPr>
        <p:spPr>
          <a:xfrm flipH="1" flipV="1">
            <a:off x="4804920" y="1599480"/>
            <a:ext cx="10594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6" name="Picture 17" descr=""/>
          <p:cNvPicPr/>
          <p:nvPr/>
        </p:nvPicPr>
        <p:blipFill>
          <a:blip r:embed="rId2"/>
          <a:stretch/>
        </p:blipFill>
        <p:spPr>
          <a:xfrm>
            <a:off x="996840" y="3220920"/>
            <a:ext cx="6972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47" name="Down Arrow 26"/>
          <p:cNvGrpSpPr/>
          <p:nvPr/>
        </p:nvGrpSpPr>
        <p:grpSpPr>
          <a:xfrm>
            <a:off x="2840040" y="2554200"/>
            <a:ext cx="353880" cy="725400"/>
            <a:chOff x="2840040" y="2554200"/>
            <a:chExt cx="353880" cy="725400"/>
          </a:xfrm>
        </p:grpSpPr>
        <p:pic>
          <p:nvPicPr>
            <p:cNvPr id="48" name="Down Arrow 26" descr=""/>
            <p:cNvPicPr/>
            <p:nvPr/>
          </p:nvPicPr>
          <p:blipFill>
            <a:blip r:embed="rId3"/>
            <a:stretch/>
          </p:blipFill>
          <p:spPr>
            <a:xfrm>
              <a:off x="2840040" y="2554200"/>
              <a:ext cx="35388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955960" y="2584440"/>
              <a:ext cx="12060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" name="Picture 27" descr=""/>
          <p:cNvPicPr/>
          <p:nvPr/>
        </p:nvPicPr>
        <p:blipFill>
          <a:blip r:embed="rId4"/>
          <a:stretch/>
        </p:blipFill>
        <p:spPr>
          <a:xfrm>
            <a:off x="328680" y="3505320"/>
            <a:ext cx="1933560" cy="733320"/>
          </a:xfrm>
          <a:prstGeom prst="rect">
            <a:avLst/>
          </a:prstGeom>
          <a:ln w="0">
            <a:noFill/>
          </a:ln>
        </p:spPr>
      </p:pic>
      <p:sp>
        <p:nvSpPr>
          <p:cNvPr id="51" name="TextBox 31"/>
          <p:cNvSpPr/>
          <p:nvPr/>
        </p:nvSpPr>
        <p:spPr>
          <a:xfrm>
            <a:off x="84240" y="4419720"/>
            <a:ext cx="2422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Ad Hoc Finished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When the Ad Hoc field option used (in Template Management-&gt;Ad Hoc), this option will file the data for those fields. Ad Hoc fields are not saved or stored in a Fileman input templat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Sav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Saves any other function on the form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Exi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Exits the for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3"/>
          <p:cNvSpPr/>
          <p:nvPr/>
        </p:nvSpPr>
        <p:spPr>
          <a:xfrm>
            <a:off x="5546880" y="4435560"/>
            <a:ext cx="242244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Clear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Clears any components on the main for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Sor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When the field listing is displayed, one can re-sort the listing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emplate Managemen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Ad Hoc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Individually selected fields for patient data Enter/Editing. Fields are not saved in any templat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Creat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Create a new template with this featur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Delet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One can delete a template from the current listing. Note that the template in the Fileman file (.402) is NOT deleted. If that is desired the manager, TAC,  or IT department should be notified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Edi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For editing a template (adding or deleting fields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5" descr=""/>
          <p:cNvPicPr/>
          <p:nvPr/>
        </p:nvPicPr>
        <p:blipFill>
          <a:blip r:embed="rId5"/>
          <a:stretch/>
        </p:blipFill>
        <p:spPr>
          <a:xfrm>
            <a:off x="2451240" y="4313160"/>
            <a:ext cx="1504800" cy="676440"/>
          </a:xfrm>
          <a:prstGeom prst="rect">
            <a:avLst/>
          </a:prstGeom>
          <a:ln w="0">
            <a:noFill/>
          </a:ln>
        </p:spPr>
      </p:pic>
      <p:cxnSp>
        <p:nvCxnSpPr>
          <p:cNvPr id="54" name="Straight Arrow Connector 36"/>
          <p:cNvCxnSpPr/>
          <p:nvPr/>
        </p:nvCxnSpPr>
        <p:spPr>
          <a:xfrm>
            <a:off x="2910960" y="3504960"/>
            <a:ext cx="1080" cy="794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5" name="Picture 39" descr=""/>
          <p:cNvPicPr/>
          <p:nvPr/>
        </p:nvPicPr>
        <p:blipFill>
          <a:blip r:embed="rId6"/>
          <a:stretch/>
        </p:blipFill>
        <p:spPr>
          <a:xfrm>
            <a:off x="3287880" y="3551400"/>
            <a:ext cx="1180800" cy="687240"/>
          </a:xfrm>
          <a:prstGeom prst="rect">
            <a:avLst/>
          </a:prstGeom>
          <a:ln w="0">
            <a:noFill/>
          </a:ln>
        </p:spPr>
      </p:pic>
      <p:cxnSp>
        <p:nvCxnSpPr>
          <p:cNvPr id="56" name="Straight Arrow Connector 40"/>
          <p:cNvCxnSpPr/>
          <p:nvPr/>
        </p:nvCxnSpPr>
        <p:spPr>
          <a:xfrm flipH="1" flipV="1">
            <a:off x="4357440" y="4238280"/>
            <a:ext cx="1281600" cy="81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1905120" y="392040"/>
            <a:ext cx="1676160" cy="2259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3200400" y="982800"/>
            <a:ext cx="32767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Red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listings in the Source list area to the Target listing area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Green Up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a line in the Target listing up one slot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Green Down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a line in the Target listing down one slo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Person tossing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Deletes a highlighted line from the Target Listin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6T17:15:48Z</dcterms:created>
  <dc:creator>Jimmo</dc:creator>
  <dc:description/>
  <dc:language>en-US</dc:language>
  <cp:lastModifiedBy>Jimmo</cp:lastModifiedBy>
  <dcterms:modified xsi:type="dcterms:W3CDTF">2016-11-16T19:53:21Z</dcterms:modified>
  <cp:revision>13</cp:revision>
  <dc:subject/>
  <dc:title>PowerPoint Presentation</dc:title>
</cp:coreProperties>
</file>