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0F70-BB92-4742-A2BD-873AA0A17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29355-8B34-4670-A132-CBB4AB182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BF712-B9C4-4A14-9581-3A32CAAB28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5EA3B-F170-4025-A624-2A4366F7F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C797-B5DB-49D4-869B-BFCEB2027B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C175-F963-4E8F-B29F-073217745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89439-738D-4144-9335-30EDE60A2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90CA-C13B-4F05-9FF0-A362AB4DA8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F4C7B-C45E-4FAD-B744-8FFAA280B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3892-C195-4751-B057-1D2CEDE4F7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3D671-7B6C-427C-8248-96DAE93FE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F499-15C5-4544-9EC3-767B4AE154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8F19C-B441-4E14-AB38-167172AEE22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tretch/>
        </p:blipFill>
        <p:spPr>
          <a:xfrm>
            <a:off x="1295280" y="838080"/>
            <a:ext cx="6126120" cy="1143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5"/>
          <p:cNvSpPr/>
          <p:nvPr/>
        </p:nvSpPr>
        <p:spPr>
          <a:xfrm>
            <a:off x="1125360" y="1998720"/>
            <a:ext cx="3124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From the main form, </a:t>
            </a: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Utility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 will open another form of actions that a manager or user can take on templates. Users can edit their own but managers can edit all that they are authorized for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3" name="Straight Arrow Connector 8"/>
          <p:cNvCxnSpPr>
            <a:stCxn id="42" idx="0"/>
          </p:cNvCxnSpPr>
          <p:nvPr/>
        </p:nvCxnSpPr>
        <p:spPr>
          <a:xfrm flipV="1">
            <a:off x="2687400" y="1409400"/>
            <a:ext cx="1051560" cy="5896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4" name="TextBox 10"/>
          <p:cNvSpPr/>
          <p:nvPr/>
        </p:nvSpPr>
        <p:spPr>
          <a:xfrm>
            <a:off x="4302000" y="1998720"/>
            <a:ext cx="31244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his option will simply refresh the Forms menu by getting a current copy of the template list from the server. Takes about a split-secon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" name="Straight Arrow Connector 11"/>
          <p:cNvCxnSpPr>
            <a:stCxn id="44" idx="0"/>
          </p:cNvCxnSpPr>
          <p:nvPr/>
        </p:nvCxnSpPr>
        <p:spPr>
          <a:xfrm flipH="1" flipV="1">
            <a:off x="4804920" y="1599480"/>
            <a:ext cx="1059480" cy="399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46" name="Picture 17" descr=""/>
          <p:cNvPicPr/>
          <p:nvPr/>
        </p:nvPicPr>
        <p:blipFill>
          <a:blip r:embed="rId2"/>
          <a:stretch/>
        </p:blipFill>
        <p:spPr>
          <a:xfrm>
            <a:off x="996840" y="3220920"/>
            <a:ext cx="6972480" cy="1104840"/>
          </a:xfrm>
          <a:prstGeom prst="rect">
            <a:avLst/>
          </a:prstGeom>
          <a:ln w="0">
            <a:noFill/>
          </a:ln>
        </p:spPr>
      </p:pic>
      <p:grpSp>
        <p:nvGrpSpPr>
          <p:cNvPr id="47" name="Down Arrow 26"/>
          <p:cNvGrpSpPr/>
          <p:nvPr/>
        </p:nvGrpSpPr>
        <p:grpSpPr>
          <a:xfrm>
            <a:off x="2840040" y="2554200"/>
            <a:ext cx="353880" cy="725400"/>
            <a:chOff x="2840040" y="2554200"/>
            <a:chExt cx="353880" cy="725400"/>
          </a:xfrm>
        </p:grpSpPr>
        <p:pic>
          <p:nvPicPr>
            <p:cNvPr id="48" name="Down Arrow 26" descr=""/>
            <p:cNvPicPr/>
            <p:nvPr/>
          </p:nvPicPr>
          <p:blipFill>
            <a:blip r:embed="rId3"/>
            <a:stretch/>
          </p:blipFill>
          <p:spPr>
            <a:xfrm>
              <a:off x="2840040" y="2554200"/>
              <a:ext cx="353880" cy="725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2955960" y="2584440"/>
              <a:ext cx="120600" cy="55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0" name="Picture 27" descr=""/>
          <p:cNvPicPr/>
          <p:nvPr/>
        </p:nvPicPr>
        <p:blipFill>
          <a:blip r:embed="rId4"/>
          <a:stretch/>
        </p:blipFill>
        <p:spPr>
          <a:xfrm>
            <a:off x="328680" y="3505320"/>
            <a:ext cx="1933560" cy="733320"/>
          </a:xfrm>
          <a:prstGeom prst="rect">
            <a:avLst/>
          </a:prstGeom>
          <a:ln w="0">
            <a:noFill/>
          </a:ln>
        </p:spPr>
      </p:pic>
      <p:sp>
        <p:nvSpPr>
          <p:cNvPr id="51" name="TextBox 31"/>
          <p:cNvSpPr/>
          <p:nvPr/>
        </p:nvSpPr>
        <p:spPr>
          <a:xfrm>
            <a:off x="84240" y="4419720"/>
            <a:ext cx="242244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 Finished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Ad Hoc field option used (in Template Management-&gt;Ad Hoc), this option will file the data for those fields. Ad Hoc fields are not saved or stored in a Fileman input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av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Saves any other function on the form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x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Exits the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33"/>
          <p:cNvSpPr/>
          <p:nvPr/>
        </p:nvSpPr>
        <p:spPr>
          <a:xfrm>
            <a:off x="5546880" y="4435560"/>
            <a:ext cx="2422440" cy="21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lear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lears any components on the main form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Sor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When the field listing is displayed, one can re-sort the listing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Template Managemen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Ad Hoc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Individually selected fields for patient data Enter/Editing. Fields are not saved in any templat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Crea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Create a new template with this feature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Delete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One can delete a template from the current listing. Note that the template in the Fileman file (.402) is NOT deleted. If that is desired the manager, TAC,  or IT department should be notified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Edit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For editing a template (adding or deleting fields)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" name="Picture 35" descr=""/>
          <p:cNvPicPr/>
          <p:nvPr/>
        </p:nvPicPr>
        <p:blipFill>
          <a:blip r:embed="rId5"/>
          <a:stretch/>
        </p:blipFill>
        <p:spPr>
          <a:xfrm>
            <a:off x="2451240" y="4313160"/>
            <a:ext cx="1504800" cy="676440"/>
          </a:xfrm>
          <a:prstGeom prst="rect">
            <a:avLst/>
          </a:prstGeom>
          <a:ln w="0">
            <a:noFill/>
          </a:ln>
        </p:spPr>
      </p:pic>
      <p:cxnSp>
        <p:nvCxnSpPr>
          <p:cNvPr id="54" name="Straight Arrow Connector 36"/>
          <p:cNvCxnSpPr/>
          <p:nvPr/>
        </p:nvCxnSpPr>
        <p:spPr>
          <a:xfrm>
            <a:off x="2910960" y="3504960"/>
            <a:ext cx="1080" cy="794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pic>
        <p:nvPicPr>
          <p:cNvPr id="55" name="Picture 39" descr=""/>
          <p:cNvPicPr/>
          <p:nvPr/>
        </p:nvPicPr>
        <p:blipFill>
          <a:blip r:embed="rId6"/>
          <a:stretch/>
        </p:blipFill>
        <p:spPr>
          <a:xfrm>
            <a:off x="3287880" y="3551400"/>
            <a:ext cx="1180800" cy="687240"/>
          </a:xfrm>
          <a:prstGeom prst="rect">
            <a:avLst/>
          </a:prstGeom>
          <a:ln w="0">
            <a:noFill/>
          </a:ln>
        </p:spPr>
      </p:pic>
      <p:cxnSp>
        <p:nvCxnSpPr>
          <p:cNvPr id="56" name="Straight Arrow Connector 40"/>
          <p:cNvCxnSpPr/>
          <p:nvPr/>
        </p:nvCxnSpPr>
        <p:spPr>
          <a:xfrm flipH="1" flipV="1">
            <a:off x="4357440" y="4238280"/>
            <a:ext cx="1281600" cy="813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"/>
          <p:cNvPicPr/>
          <p:nvPr/>
        </p:nvPicPr>
        <p:blipFill>
          <a:blip r:embed="rId1"/>
          <a:stretch/>
        </p:blipFill>
        <p:spPr>
          <a:xfrm>
            <a:off x="1905120" y="392040"/>
            <a:ext cx="1676160" cy="2259000"/>
          </a:xfrm>
          <a:prstGeom prst="rect">
            <a:avLst/>
          </a:prstGeom>
          <a:ln w="0">
            <a:noFill/>
          </a:ln>
        </p:spPr>
      </p:pic>
      <p:sp>
        <p:nvSpPr>
          <p:cNvPr id="58" name="TextBox 4"/>
          <p:cNvSpPr/>
          <p:nvPr/>
        </p:nvSpPr>
        <p:spPr>
          <a:xfrm>
            <a:off x="3200400" y="982800"/>
            <a:ext cx="3276720" cy="9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Red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listings in the Source list area to the Target listing area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Up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up one slot.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Green Down Arrow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Moves a line in the Target listing down one slot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Person tossing</a:t>
            </a:r>
            <a:r>
              <a:rPr b="0" lang="en-US" sz="800" spc="-1" strike="noStrike">
                <a:solidFill>
                  <a:srgbClr val="000000"/>
                </a:solidFill>
                <a:latin typeface="Verdana"/>
                <a:ea typeface="Verdana"/>
              </a:rPr>
              <a:t>: Deletes a highlighted line from the Target Listing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1-16T17:15:48Z</dcterms:created>
  <dc:creator>Jimmo</dc:creator>
  <dc:description/>
  <dc:language>en-US</dc:language>
  <cp:lastModifiedBy>Jimmo</cp:lastModifiedBy>
  <dcterms:modified xsi:type="dcterms:W3CDTF">2016-11-16T19:53:21Z</dcterms:modified>
  <cp:revision>13</cp:revision>
  <dc:subject/>
  <dc:title>PowerPoint Presentation</dc:title>
</cp:coreProperties>
</file>