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41F0-37AB-48D7-A4DB-AD9C2E05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1C2-E7FE-4690-8916-19B23BB2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29D5-05F6-402A-87F8-AEB2FB9E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E6C1-89AD-4B8E-8F37-DD8ACF65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528-69AD-40C4-8922-D65C5556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C37-6849-481D-85CD-1014BC53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049-51B6-4B34-B889-FC706621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3D2-EBE7-451D-A166-3C64C32A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4AB-8921-4864-8981-C9B20DAA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3EC4-3D27-4948-8A3F-3373F073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ED5-7731-4780-8DA7-C6F2AA41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7C19-998C-4430-94DB-084B4E4E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7520-34B5-4AC4-B059-85E978741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ounded Rectangle 3"/>
          <p:cNvGrpSpPr/>
          <p:nvPr/>
        </p:nvGrpSpPr>
        <p:grpSpPr>
          <a:xfrm>
            <a:off x="2535120" y="1798560"/>
            <a:ext cx="4151520" cy="3614760"/>
            <a:chOff x="2535120" y="1798560"/>
            <a:chExt cx="4151520" cy="3614760"/>
          </a:xfrm>
        </p:grpSpPr>
        <p:pic>
          <p:nvPicPr>
            <p:cNvPr id="42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2535120" y="1798560"/>
              <a:ext cx="415152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62280" y="2000160"/>
              <a:ext cx="3695760" cy="31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4:30:56Z</dcterms:created>
  <dc:creator>Jimmo</dc:creator>
  <dc:description/>
  <dc:language>en-US</dc:language>
  <cp:lastModifiedBy>Jimmo</cp:lastModifiedBy>
  <dcterms:modified xsi:type="dcterms:W3CDTF">2015-03-15T14:36:49Z</dcterms:modified>
  <cp:revision>1</cp:revision>
  <dc:subject/>
  <dc:title>PowerPoint Presentation</dc:title>
</cp:coreProperties>
</file>