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AA3-78AF-458A-96A3-C8B9E5C1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A8D-2D88-4A3C-B497-C6DE00FF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68C-EC67-47F8-A2AD-E855D35A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6BA-A995-4963-8EE0-D2E3E32B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787-EEDA-48B6-8CC3-218BBF4E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7FE-6BDB-4761-B8B2-D5AA1990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A5D-8DB3-4F4D-BB2C-3A46CD2C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8B1-6FB5-4F79-8FC0-75764F4C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133-C55D-4D13-B87D-EF4A839B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A8E-909B-4BE4-B064-EFBFA778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396-AF5C-46CC-8CCF-02BF0BD3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6E9-5385-4286-92B2-C3624876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2B59-4DD8-47A5-8C61-90840F693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ounded Rectangle 3"/>
          <p:cNvGrpSpPr/>
          <p:nvPr/>
        </p:nvGrpSpPr>
        <p:grpSpPr>
          <a:xfrm>
            <a:off x="2535120" y="1798560"/>
            <a:ext cx="4151520" cy="3614760"/>
            <a:chOff x="2535120" y="1798560"/>
            <a:chExt cx="4151520" cy="3614760"/>
          </a:xfrm>
        </p:grpSpPr>
        <p:pic>
          <p:nvPicPr>
            <p:cNvPr id="4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2535120" y="1798560"/>
              <a:ext cx="415152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62280" y="2000160"/>
              <a:ext cx="369576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4:30:56Z</dcterms:created>
  <dc:creator>Jimmo</dc:creator>
  <dc:description/>
  <dc:language>en-US</dc:language>
  <cp:lastModifiedBy>Jimmo</cp:lastModifiedBy>
  <dcterms:modified xsi:type="dcterms:W3CDTF">2015-03-15T14:36:49Z</dcterms:modified>
  <cp:revision>1</cp:revision>
  <dc:subject/>
  <dc:title>PowerPoint Presentation</dc:title>
</cp:coreProperties>
</file>