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FE9B-E4EF-48A1-B86F-09AA1E93D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5496F-6103-48E8-810C-5CD650E6A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657FC-3EF3-4103-8A9B-FDD3E14AC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3E3A-F009-4B5C-9CF6-9A9076306F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2AF76-3FB4-438C-BC8B-635F2FDE5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8B0C-F415-451F-838D-586B125FC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C75F3-5C10-49BA-84F5-06A9C4FE9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B99-A255-4B9C-BA5D-D72E13898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C0698-970B-4107-9190-9C1B60A2E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9568-7A2E-4BA7-A5BE-E4C8C4863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B8991-60C1-4B41-B507-D2DDEB2F8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0F1E-7AA8-4F7B-A1DE-85C02E8A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BF77F-89BD-4659-90E6-73053981821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Rounded Rectangle 3"/>
          <p:cNvGrpSpPr/>
          <p:nvPr/>
        </p:nvGrpSpPr>
        <p:grpSpPr>
          <a:xfrm>
            <a:off x="2535120" y="1798560"/>
            <a:ext cx="4151520" cy="3614760"/>
            <a:chOff x="2535120" y="1798560"/>
            <a:chExt cx="4151520" cy="3614760"/>
          </a:xfrm>
        </p:grpSpPr>
        <p:pic>
          <p:nvPicPr>
            <p:cNvPr id="42" name="Rounded Rectangle 3" descr=""/>
            <p:cNvPicPr/>
            <p:nvPr/>
          </p:nvPicPr>
          <p:blipFill>
            <a:blip r:embed="rId1"/>
            <a:stretch/>
          </p:blipFill>
          <p:spPr>
            <a:xfrm>
              <a:off x="2535120" y="1798560"/>
              <a:ext cx="4151520" cy="36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2762280" y="2000160"/>
              <a:ext cx="3695760" cy="316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5T14:30:56Z</dcterms:created>
  <dc:creator>Jimmo</dc:creator>
  <dc:description/>
  <dc:language>en-US</dc:language>
  <cp:lastModifiedBy>Jimmo</cp:lastModifiedBy>
  <dcterms:modified xsi:type="dcterms:W3CDTF">2015-03-15T14:36:49Z</dcterms:modified>
  <cp:revision>1</cp:revision>
  <dc:subject/>
  <dc:title>PowerPoint Presentation</dc:title>
</cp:coreProperties>
</file>