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CBC-B486-4DC3-81D3-E2C09DAF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68E-0864-4B0F-BBA7-0E168B8E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4D9-EB47-4135-BFF7-1BF2934E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C48-6098-45AF-B186-C91A0F99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DF8-E24A-43E6-BAF2-875E73F4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45C-B4AA-40BC-8ED7-3142DB54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E66-058F-48BE-9F69-95D2A95E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DC1-62AF-477B-8763-207A7E1F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E65-413E-49EE-B6B8-F828E364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7C0-C138-4F26-A40B-6B37F3A8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E3A-6C70-4FEC-AB02-02719E0C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BB6-6E2D-4941-81F4-44BD368B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7FDA-4A71-45DA-BB79-2DCD3C74E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ounded Rectangle 3"/>
          <p:cNvGrpSpPr/>
          <p:nvPr/>
        </p:nvGrpSpPr>
        <p:grpSpPr>
          <a:xfrm>
            <a:off x="2535120" y="1798560"/>
            <a:ext cx="4151520" cy="3614760"/>
            <a:chOff x="2535120" y="1798560"/>
            <a:chExt cx="4151520" cy="3614760"/>
          </a:xfrm>
        </p:grpSpPr>
        <p:pic>
          <p:nvPicPr>
            <p:cNvPr id="42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2535120" y="1798560"/>
              <a:ext cx="415152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62280" y="2000160"/>
              <a:ext cx="3695760" cy="31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4:30:56Z</dcterms:created>
  <dc:creator>Jimmo</dc:creator>
  <dc:description/>
  <dc:language>en-US</dc:language>
  <cp:lastModifiedBy>Jimmo</cp:lastModifiedBy>
  <dcterms:modified xsi:type="dcterms:W3CDTF">2015-03-15T14:36:49Z</dcterms:modified>
  <cp:revision>1</cp:revision>
  <dc:subject/>
  <dc:title>PowerPoint Presentation</dc:title>
</cp:coreProperties>
</file>