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EABC-4BCC-4A09-93B2-FAD255C5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458F-98DE-49BA-AE9E-D20DE697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BFE4-51D1-47BC-AB1F-C13524DA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3678-E55A-408D-BF49-FC99F14D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50F6-3C38-4394-85A5-99C0BB51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2B32-764D-4196-81DB-19F279FB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E8C4-3E8D-4D06-96DB-FA6B8AE3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566C-89C5-4E97-9C66-AF91E76D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E192-2BDB-4E71-BF60-D1A95B8C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89EA-618E-4FA3-AA41-194F139E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0CDF-14D4-4FC0-AABB-49853900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DC1A-095F-4DB6-B2CD-C153AA02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0E0A-0807-4A3C-982F-E7B7885D3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ounded Rectangle 3"/>
          <p:cNvGrpSpPr/>
          <p:nvPr/>
        </p:nvGrpSpPr>
        <p:grpSpPr>
          <a:xfrm>
            <a:off x="2535120" y="1798560"/>
            <a:ext cx="4151520" cy="3614760"/>
            <a:chOff x="2535120" y="1798560"/>
            <a:chExt cx="4151520" cy="3614760"/>
          </a:xfrm>
        </p:grpSpPr>
        <p:pic>
          <p:nvPicPr>
            <p:cNvPr id="42" name="Rounded Rectangle 3" descr=""/>
            <p:cNvPicPr/>
            <p:nvPr/>
          </p:nvPicPr>
          <p:blipFill>
            <a:blip r:embed="rId1"/>
            <a:stretch/>
          </p:blipFill>
          <p:spPr>
            <a:xfrm>
              <a:off x="2535120" y="1798560"/>
              <a:ext cx="4151520" cy="36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762280" y="2000160"/>
              <a:ext cx="3695760" cy="31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14:30:56Z</dcterms:created>
  <dc:creator>Jimmo</dc:creator>
  <dc:description/>
  <dc:language>en-US</dc:language>
  <cp:lastModifiedBy>Jimmo</cp:lastModifiedBy>
  <dcterms:modified xsi:type="dcterms:W3CDTF">2015-03-15T14:36:49Z</dcterms:modified>
  <cp:revision>1</cp:revision>
  <dc:subject/>
  <dc:title>PowerPoint Presentation</dc:title>
</cp:coreProperties>
</file>