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7563-C8CB-47D0-A26E-21A101999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0E19-C345-4E5D-80D7-DB7F3F4E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DCA2-5096-458A-94D9-341D5C3F4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CDB9-01AB-4193-A2B0-E06B9E1EC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9137-172E-417E-9806-01088D09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55B7-3965-417B-A913-384E0E5A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A6D0-1BAB-4196-B515-0464C922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911C-79CD-41D9-8FC7-B2C2E33E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EA17-6E00-4660-B078-A5E78865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DD9C-844C-44CE-A03B-7758862F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F6C4-F4F7-4D58-9B6B-A9FD4BE0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F4D8-A681-4CCB-97D7-80BC49DD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2188-8C81-4423-90EF-2ADA4912E4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Rounded Rectangle 3"/>
          <p:cNvGrpSpPr/>
          <p:nvPr/>
        </p:nvGrpSpPr>
        <p:grpSpPr>
          <a:xfrm>
            <a:off x="2535120" y="1798560"/>
            <a:ext cx="4151520" cy="3614760"/>
            <a:chOff x="2535120" y="1798560"/>
            <a:chExt cx="4151520" cy="3614760"/>
          </a:xfrm>
        </p:grpSpPr>
        <p:pic>
          <p:nvPicPr>
            <p:cNvPr id="42" name="Rounded Rectangle 3" descr=""/>
            <p:cNvPicPr/>
            <p:nvPr/>
          </p:nvPicPr>
          <p:blipFill>
            <a:blip r:embed="rId1"/>
            <a:stretch/>
          </p:blipFill>
          <p:spPr>
            <a:xfrm>
              <a:off x="2535120" y="1798560"/>
              <a:ext cx="4151520" cy="36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2762280" y="2000160"/>
              <a:ext cx="3695760" cy="31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5T14:30:56Z</dcterms:created>
  <dc:creator>Jimmo</dc:creator>
  <dc:description/>
  <dc:language>en-US</dc:language>
  <cp:lastModifiedBy>Jimmo</cp:lastModifiedBy>
  <dcterms:modified xsi:type="dcterms:W3CDTF">2015-03-15T14:36:49Z</dcterms:modified>
  <cp:revision>1</cp:revision>
  <dc:subject/>
  <dc:title>PowerPoint Presentation</dc:title>
</cp:coreProperties>
</file>