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25B-D4F8-44D2-9F06-21BAB2F3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675-CF95-4C60-8759-CFCEEC26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99ED-126B-4975-9CAD-24EF64D0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689-F664-4F0B-8B0A-AE71D808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B5F-61EE-47C2-90A5-6795F73A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D51A-6502-446E-8AC0-1F086710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45B-1C35-4B2F-B1BD-B60E4C25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C22C-F0A6-4107-8225-4B21B67F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CB3-7ED9-4E2D-9CE2-0755F787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C8B-2543-410D-BB51-AD81A8D6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13F-4F69-4D9A-AC64-3C57EB8B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686-18BC-4D62-8176-749111AD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228D-79DB-47A6-8BED-B8E3F8903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ounded Rectangle 3"/>
          <p:cNvGrpSpPr/>
          <p:nvPr/>
        </p:nvGrpSpPr>
        <p:grpSpPr>
          <a:xfrm>
            <a:off x="2535120" y="1798560"/>
            <a:ext cx="4151520" cy="3614760"/>
            <a:chOff x="2535120" y="1798560"/>
            <a:chExt cx="4151520" cy="3614760"/>
          </a:xfrm>
        </p:grpSpPr>
        <p:pic>
          <p:nvPicPr>
            <p:cNvPr id="42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2535120" y="1798560"/>
              <a:ext cx="415152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62280" y="2000160"/>
              <a:ext cx="3695760" cy="31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4:30:56Z</dcterms:created>
  <dc:creator>Jimmo</dc:creator>
  <dc:description/>
  <dc:language>en-US</dc:language>
  <cp:lastModifiedBy>Jimmo</cp:lastModifiedBy>
  <dcterms:modified xsi:type="dcterms:W3CDTF">2015-03-15T14:36:49Z</dcterms:modified>
  <cp:revision>1</cp:revision>
  <dc:subject/>
  <dc:title>PowerPoint Presentation</dc:title>
</cp:coreProperties>
</file>