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2779-80E5-4F84-8FCE-A471436B6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ABCB-0C08-4CB8-B96D-4414E467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366F-473B-4C55-97A6-A1E054184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36E2-3E63-4E93-B827-E0A1DE80D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B1C7-9891-46A5-B1EB-48708F64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0907-F9FB-4175-8591-B2EDBC78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03FC-A9C9-46D8-89DD-884CDBF8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4434-0DD2-40FC-B58D-F0C23105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FA8F-0542-46A5-81F7-D216EDCB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5DA1-319F-4861-A28F-5B5BD302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4D49-B6EC-469D-9B25-EC65CBD5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368E-F322-4860-9F23-02AE3B37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4430-F21C-45A2-BE0E-D91D3210B7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2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3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27"/>
          <p:cNvSpPr/>
          <p:nvPr/>
        </p:nvSpPr>
        <p:spPr>
          <a:xfrm>
            <a:off x="4559400" y="56674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8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564160" cy="3809880"/>
          </a:xfrm>
          <a:prstGeom prst="rect">
            <a:avLst/>
          </a:prstGeom>
          <a:ln w="0">
            <a:noFill/>
          </a:ln>
        </p:spPr>
      </p:pic>
      <p:cxnSp>
        <p:nvCxnSpPr>
          <p:cNvPr id="51" name="Straight Arrow Connector 9"/>
          <p:cNvCxnSpPr>
            <a:stCxn id="43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2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3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4" name="Straight Arrow Connector 32"/>
          <p:cNvCxnSpPr>
            <a:stCxn id="47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5" name="Straight Arrow Connector 35"/>
          <p:cNvCxnSpPr>
            <a:stCxn id="48" idx="0"/>
          </p:cNvCxnSpPr>
          <p:nvPr/>
        </p:nvCxnSpPr>
        <p:spPr>
          <a:xfrm flipH="1" flipV="1">
            <a:off x="49986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4-11T22:51:52Z</dcterms:modified>
  <cp:revision>8</cp:revision>
  <dc:subject/>
  <dc:title>PowerPoint Presentation</dc:title>
</cp:coreProperties>
</file>