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6B9-9AA8-423E-BDB3-39F2B883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428-3F07-47CF-A7A1-643387A9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2DF-B661-46BA-B6A4-56C883FC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470-2D67-408B-A80E-4528A7CB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C21-11F2-47D4-ABA4-A3C2D46B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437-2511-4F30-9CAA-B2AD5AF3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9FA-B735-41BF-ACFF-41EB6F3C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F556-F2D0-4244-A6AB-C0DE30B5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CF5-B9BF-47A4-837E-835F8CCC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54D8-9F55-4134-B6C5-491D227B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18C-F1F9-4121-9F14-89F82FAD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9DF-F53D-4ECB-A649-14353726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27CC-A652-4E0E-8017-B6E796C03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7"/>
          <p:cNvSpPr/>
          <p:nvPr/>
        </p:nvSpPr>
        <p:spPr>
          <a:xfrm>
            <a:off x="4559400" y="56674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8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564160" cy="3809880"/>
          </a:xfrm>
          <a:prstGeom prst="rect">
            <a:avLst/>
          </a:prstGeom>
          <a:ln w="0">
            <a:noFill/>
          </a:ln>
        </p:spPr>
      </p:pic>
      <p:cxnSp>
        <p:nvCxnSpPr>
          <p:cNvPr id="51" name="Straight Arrow Connector 9"/>
          <p:cNvCxnSpPr>
            <a:stCxn id="43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32"/>
          <p:cNvCxnSpPr>
            <a:stCxn id="47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5" name="Straight Arrow Connector 35"/>
          <p:cNvCxnSpPr>
            <a:stCxn id="48" idx="0"/>
          </p:cNvCxnSpPr>
          <p:nvPr/>
        </p:nvCxnSpPr>
        <p:spPr>
          <a:xfrm flipH="1" flipV="1">
            <a:off x="49986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4-11T22:51:52Z</dcterms:modified>
  <cp:revision>8</cp:revision>
  <dc:subject/>
  <dc:title>PowerPoint Presentation</dc:title>
</cp:coreProperties>
</file>