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BE9-3D2F-477D-8DE2-B5F15BBC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82B-05D0-4BA9-B805-C9A3805A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FC0-2FD2-4DD5-A32D-5B43D00F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029-7E0B-43B8-9256-D559E8FF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1B0-4A8C-4764-B268-FDC5940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586-4ED7-47E9-97DD-82F51945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2B1-65D7-45B7-A26D-E7EFF7AF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FB4-CF55-4650-8C51-2EF43D1C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546-57D4-493D-A37B-F27C8C0D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BC1-C2F6-4981-9B20-8F9122DA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8C9-00A1-49E2-B8ED-5181A50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FCA-C05D-43B8-9003-C9FD3A57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98CF-12D6-4741-B689-0680DB108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ounded Rectangle 3"/>
          <p:cNvGrpSpPr/>
          <p:nvPr/>
        </p:nvGrpSpPr>
        <p:grpSpPr>
          <a:xfrm>
            <a:off x="2535120" y="1798560"/>
            <a:ext cx="4151520" cy="3614760"/>
            <a:chOff x="2535120" y="1798560"/>
            <a:chExt cx="4151520" cy="3614760"/>
          </a:xfrm>
        </p:grpSpPr>
        <p:pic>
          <p:nvPicPr>
            <p:cNvPr id="4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2535120" y="1798560"/>
              <a:ext cx="415152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62280" y="2000160"/>
              <a:ext cx="3695760" cy="31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4:30:56Z</dcterms:created>
  <dc:creator>Jimmo</dc:creator>
  <dc:description/>
  <dc:language>en-US</dc:language>
  <cp:lastModifiedBy>Jimmo</cp:lastModifiedBy>
  <dcterms:modified xsi:type="dcterms:W3CDTF">2015-03-15T14:36:49Z</dcterms:modified>
  <cp:revision>1</cp:revision>
  <dc:subject/>
  <dc:title>PowerPoint Presentation</dc:title>
</cp:coreProperties>
</file>